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09F165-1E9A-4002-941F-F9F7FC8C6E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DD60D1-05DF-4FEE-849D-944E208CE6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0D3FC1-A15F-4365-A830-B1357072B6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E38889-A097-427A-B743-DCF6C56C51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969-D69B-4F5C-9997-E63DF23D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5B6-D1E6-4C8E-B0D1-A4FD3C6A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D0C-C286-40DE-89C5-72676BF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678-C2A1-4E8D-98EB-5384697D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5BE-D737-4D3E-B8AC-0E96641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3AB-527C-48A3-ACCF-1AAFAAE7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52E-E68C-439E-BA57-32EDFF2B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929-A4C1-4544-9328-F3D5FB70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687-D129-4EC1-8A86-D88C0B19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B2E-D605-49E6-B8F7-C107895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114-4CFB-4022-9E98-09CA5D14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969-D0D1-432A-852D-DCBDCE5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D0CA-CB81-4AA2-BC03-FA30C0E2B6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.marion.or.us/NR/rdonlyres/92FA5101-FC21-4B56-9FD8-4474435C877D/4837/Recycle20ArrowswGlobe20Guy.jpg&amp;imgrefurl=http://www.co.marion.or.us/PW/ES/recycle/&amp;h=2079&amp;w=2085&amp;sz=187&amp;hl=en&amp;start=6&amp;um=1&amp;tbnid=f-hwICzSxDDmKM:&amp;tbnh=150&amp;tbnw=150&amp;prev=/images?q=recycle&amp;um=1&amp;hl=en&amp;sa=X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4000" y="2997000"/>
            <a:ext cx="533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2600"/>
            </a:br>
            <a:r>
              <a:rPr b="1" lang="en-GB" sz="26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ake our 20 best people away, and I will tell you that Microsoft would become an unimportant company”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Bill Gates, CEO of Microsoft in Fortune, November 25th, 1996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s.jpeg"/>
          <p:cNvPicPr/>
          <p:nvPr/>
        </p:nvPicPr>
        <p:blipFill>
          <a:blip r:embed="rId1"/>
          <a:stretch/>
        </p:blipFill>
        <p:spPr>
          <a:xfrm>
            <a:off x="0" y="2637000"/>
            <a:ext cx="36972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87640" y="1915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 believe in the adage: Hire people smarter than you and get out of their way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oward Schultze, CEO of coffee chain Starbucks (199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images-3.jpeg"/>
          <p:cNvPicPr/>
          <p:nvPr/>
        </p:nvPicPr>
        <p:blipFill>
          <a:blip r:embed="rId1"/>
          <a:stretch/>
        </p:blipFill>
        <p:spPr>
          <a:xfrm>
            <a:off x="468360" y="3716280"/>
            <a:ext cx="2806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urpose of HRM is to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cruit, develo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tili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rganisation’s personnel in the way which is most appropriate to the achievement of the firm’s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ims and objecti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objectives of the Human Resource Depar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Recycle20ArrowswGlobe20Gu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1497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skills and business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workforce size to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mising labour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ing use of work forces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taining employer/ee re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organisation should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ts employees in a way which is consistent with the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objectives of the busine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 Its main purpose is to establish a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competitive advant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rucial that the HRM functions and processes are aligned with the strategic direction of the business.  It must support the other business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98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the method by which a business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orecast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how many and what type of employees it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needs now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is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planning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or a firm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taffing n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department must have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right num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of appropriately skilled employees to accomplish their target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.g how many workers will be needed and what kind of workforce will be needed – skilled/unskilled, fulltime/part-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es need to operate and plan for future occur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M plan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recrui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ff – e.g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ere to advertise, how to interview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 also decides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trea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aff while they are working for the business –e.g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ow to use their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skill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tain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them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train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war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m, and eventually how to terminate their employ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fore, the likely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deman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products and services must be anticipated and the future implications for recruitment and training consider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596880" y="414360"/>
            <a:ext cx="82551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9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Short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imed at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immedi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eds of the business, ie. Filling vacancies left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Maternity le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n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try to plan for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future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E.g. if a company was aiming to change its production techniques, it would need to plan in adv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575784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Human Resource</a:t>
            </a: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management: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Employment 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03640" y="3250800"/>
            <a:ext cx="5688000" cy="27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·      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establ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387440" y="461880"/>
            <a:ext cx="990720" cy="990720"/>
          </a:xfrm>
          <a:prstGeom prst="rect">
            <a:avLst/>
          </a:prstGeom>
          <a:solidFill>
            <a:srgbClr val="1fe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87440" y="2747880"/>
            <a:ext cx="99072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44440" y="3890880"/>
            <a:ext cx="990720" cy="990720"/>
          </a:xfrm>
          <a:prstGeom prst="rect">
            <a:avLst/>
          </a:prstGeom>
          <a:solidFill>
            <a:srgbClr val="e3b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44440" y="1604880"/>
            <a:ext cx="990720" cy="99072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03280" y="5013360"/>
            <a:ext cx="990720" cy="99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temp-2"/>
          <p:cNvPicPr/>
          <p:nvPr/>
        </p:nvPicPr>
        <p:blipFill>
          <a:blip r:embed="rId1"/>
          <a:stretch/>
        </p:blipFill>
        <p:spPr>
          <a:xfrm>
            <a:off x="179280" y="5051520"/>
            <a:ext cx="122400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"/>
          <a:srcRect l="57392" t="49028" r="21208" b="30319"/>
          <a:stretch/>
        </p:blipFill>
        <p:spPr>
          <a:xfrm>
            <a:off x="179280" y="496800"/>
            <a:ext cx="107964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mmipublicrelations.com/images/uploads/leadership.jpg"/>
          <p:cNvPicPr/>
          <p:nvPr/>
        </p:nvPicPr>
        <p:blipFill>
          <a:blip r:embed="rId3"/>
          <a:stretch/>
        </p:blipFill>
        <p:spPr>
          <a:xfrm>
            <a:off x="1332000" y="38354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400_F_2204087_ipqib7qi6TroUtl81kleW2HRST80Nd"/>
          <p:cNvPicPr/>
          <p:nvPr/>
        </p:nvPicPr>
        <p:blipFill>
          <a:blip r:embed="rId4"/>
          <a:stretch/>
        </p:blipFill>
        <p:spPr>
          <a:xfrm>
            <a:off x="179280" y="2797200"/>
            <a:ext cx="1152720" cy="88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catalize.be/public/images/managers.jpg"/>
          <p:cNvPicPr/>
          <p:nvPr/>
        </p:nvPicPr>
        <p:blipFill>
          <a:blip r:embed="rId5"/>
          <a:stretch/>
        </p:blipFill>
        <p:spPr>
          <a:xfrm>
            <a:off x="1403280" y="17352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5:33:32Z</dcterms:created>
  <dc:creator>Zaira</dc:creator>
  <dc:description/>
  <dc:language>en-US</dc:language>
  <cp:lastModifiedBy>Ernest Reichelt</cp:lastModifiedBy>
  <cp:lastPrinted>2012-04-13T14:19:56Z</cp:lastPrinted>
  <dcterms:modified xsi:type="dcterms:W3CDTF">2013-06-08T11:03:45Z</dcterms:modified>
  <cp:revision>237</cp:revision>
  <dc:subject/>
  <dc:title>Managing Change: Internal causes of change</dc:title>
</cp:coreProperties>
</file>